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07D-9187-4292-AC2A-03BEC025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1EC-963A-49B0-8423-8AB94686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784-DFCF-4037-A34B-514EDE4E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1D8-1639-4F0A-A442-13C27E54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A9E-E7D0-4CFA-856C-2C16130F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C0A-F1E8-4D59-83AB-349FD66D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6B6-95CD-4144-84C0-0AB8817F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5CD-FC65-44B4-89E2-98523FFD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F76-5D58-4B77-A2AD-C16AE46A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595-6AC1-4331-B1A8-10B9202E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F3B-D771-4AF3-A0E8-C8391411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3AD-ADCE-4165-B4D0-18D9B1E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9F0D-2DFA-46D2-928F-DBF05134A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kylar Gar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 st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http://t0.gstatic.com/images?q=tbn:ANd9GcS3YH79BmjE0DROI72xNkZ9CSphDemxcE6DuXjjokSPBnqneR7q07j4KK2P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http://t3.gstatic.com/images?q=tbn:ANd9GcT_uNy6Mx0C0TCb3172wKSTBC2nX-wIge2FAZ3voeMCbRWt09ltXg"/>
          <p:cNvPicPr/>
          <p:nvPr/>
        </p:nvPicPr>
        <p:blipFill>
          <a:blip r:embed="rId1"/>
          <a:stretch/>
        </p:blipFill>
        <p:spPr>
          <a:xfrm>
            <a:off x="0" y="228600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e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almost surrounded by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1.gstatic.com/images?q=tbn:ANd9GcSVXu3dQG1hmeWpER89dfrfQa1VYhka-sALCg0Wl8pDN615i2QE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at and conduct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0.gstatic.com/images?q=tbn:ANd9GcSSF2ZzJ3qmoFWvgnHjIGF-YzteOhTkk6fm-rXhYnxE2WG_OCjNxw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lawmaking  place where people vote  on issues that helped there  c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t0.gstatic.com/images?q=tbn:ANd9GcSJUeM-_kRCxkZUrq_TS0R2sgICyv8RDcK5HO9VkDIwXgzOaIRBbw"/>
          <p:cNvPicPr/>
          <p:nvPr/>
        </p:nvPicPr>
        <p:blipFill>
          <a:blip r:embed="rId1"/>
          <a:stretch/>
        </p:blipFill>
        <p:spPr>
          <a:xfrm>
            <a:off x="-1139760" y="2505240"/>
            <a:ext cx="103629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143000" y="2133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rson who has curtain rights and responsibilities to his or her count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t1.gstatic.com/images?q=tbn:ANd9GcQXOtSMrwUam9SvLWoyUxV1rJ51Nrote6zwjNJUCZrg2dCIPP0fKA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part from Greec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t1.gstatic.com/images?q=tbn:ANd9GcQTCqP7l54g_i_ZYNgxzN47bQgMdzQyUhwiBDi5EiWBkfuPqzd4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t3.gstatic.com/images?q=tbn:ANd9GcTWOC9SUfSX_Y-skdLqegjiX0Vc4A5QfptHyaGWIslbozMrGj-IpTZZu9k7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re evidence and make decisions an count of la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http://t1.gstatic.com/images?q=tbn:ANd9GcRYqoGiqnIdjQ130MSjIMbga-pPRkhP6p9aE1bLKXbviXtOLpGy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for one rul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http://t2.gstatic.com/images?q=tbn:ANd9GcTED0nbbbNf_uFXTNn5-Y5cfQ-QTqurrF6gqzMMPFhVZC72tR8ATA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2:57Z</dcterms:modified>
  <cp:revision>92</cp:revision>
  <dc:subject/>
  <dc:title>Ancient Greece</dc:title>
</cp:coreProperties>
</file>